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AE5-1672-4753-95A4-52CB3569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E5F-21DD-40F6-B5B6-7962FA09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5E4-F0BF-4507-A29D-896A34CC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261-AF44-4F5E-BEE5-B6ABA2CB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BBE-4DBD-4100-AE5F-A82F8552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51B-2CF9-48D5-8DC1-ECB57C7F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6DC-D295-4BD2-BB1A-C1D8A09E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B3CD-2BFB-44A1-BD12-B797A4B7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C51-56B2-49E6-B7F2-12A29CF5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A94-DFD5-4EB5-9D23-2AD41CD4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51C-D389-4E38-BDF4-8AFDD732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88A-9E17-4D52-872F-08178F32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7427-0978-43A9-B6FE-83BB3FBC18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4535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9933"/>
                </a:solidFill>
                <a:latin typeface="Arial"/>
              </a:rPr>
              <a:t>www.FreepptBackground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250920" y="765000"/>
            <a:ext cx="60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224b50"/>
                </a:solidFill>
                <a:latin typeface="Arial"/>
              </a:rPr>
              <a:t>Free PPT Backgr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00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iko</cp:lastModifiedBy>
  <dcterms:modified xsi:type="dcterms:W3CDTF">2012-12-25T19:19:50Z</dcterms:modified>
  <cp:revision>749</cp:revision>
  <dc:subject/>
  <dc:title>Diapositiva 1</dc:title>
</cp:coreProperties>
</file>